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000-AC4C-40CF-9BFF-23BADA3E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F82-E5B2-4F74-9F4A-480CDAF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9B4-21F9-4784-9D17-96D8EDA2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F45-2E70-493F-8166-37B27FDE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CED-9206-448E-80CF-28DEEFDB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7916-1587-4FCC-8088-7CBE1EF6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D7A9-36C8-4008-A9DB-1B5FAF1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C87-2A52-4F24-8A11-FFE3ABC5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2C40-C1D9-4BB2-976D-1F4E6029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A8CE-D3C5-4835-B66B-42E638F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CC2D-DF31-4FEE-B45E-EE0E749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380-6205-46E1-95DB-4A08080B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3F5E-BDE6-4758-B3D3-5C565F74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E790-CBF6-4163-AF29-1C9C154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EE1B-1A9F-4819-9A96-B27D7413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E441-DBA5-4ACC-8C4A-DD6B197D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0FEC-5E88-4394-8983-B234B6F2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59A0-20FA-4489-B502-2C976642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508A-4270-4624-9F14-106AEBD8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A80E-826E-446B-9B09-0D3A4839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906CC-14C3-4C0C-90BD-A0E8B6A8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9632-5971-4B72-9765-5CF8F41D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B65-06E2-4624-8ACB-A982435E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A291-D064-4A7D-B7D1-3F13F0F8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53C2-39C9-406B-9815-0CD2606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68E0-4B50-4500-8D8C-CDC86B24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1F65-EF79-4F56-B7A0-31EBAED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710A-CA7E-4FB5-9B6E-23FFB00E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0533-1E3E-477F-A006-ECB6DFA6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57AC-759C-40BA-9283-6208ABC5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A404-EFED-44DC-AC18-625CE9D4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DC78-76D3-4A3D-891F-B82DF9E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46DE-A929-49C4-859B-4CBCAEEE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809-697C-48CC-9E2E-EBE89D2B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4BD4-A726-4074-AD2B-DC147CE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24EE-CE01-4A8A-86EE-06D1C26E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70CE-9D6A-41F3-BC56-5C30ACE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5AEE6-3856-4805-B7BC-5431CB0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ED41F-5481-4B0F-B6A0-A9690BC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3931-B46E-4F12-AECE-ADB39E1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5D3F-E12F-4325-8043-989203D1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9F6B-C481-4171-85E1-556CAEFA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B28D-ED2A-4CF4-95A3-6B332450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DF8-F009-4145-A535-5062332D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66B-07FA-4730-AA9F-7D70D1BD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51C-CA3C-47A3-9F64-2155D84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873-1F77-4093-B32F-B4DA7CD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9A4-3B13-4FF0-95DF-1F90AD7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4E69-C55A-43EC-AE1C-A91E529EE6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6EBE-CD34-4F6B-8619-840676309B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CE33-313E-4851-A2C0-0F2870D42A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AD73-E2A5-4A97-86CB-F0653DABD1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18920" y="1844280"/>
            <a:ext cx="6046920" cy="208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3399ff"/>
                </a:solidFill>
                <a:latin typeface="Comic Sans MS"/>
              </a:rPr>
              <a:t>Präsentation von mir!!</a:t>
            </a:r>
            <a:br>
              <a:rPr sz="4000"/>
            </a:br>
            <a:r>
              <a:rPr b="0" lang="de-DE" sz="4000" spc="-1" strike="noStrike">
                <a:solidFill>
                  <a:srgbClr val="3399ff"/>
                </a:solidFill>
                <a:latin typeface="Comic Sans MS"/>
              </a:rPr>
              <a:t>Presentation of myself!!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6596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99"/>
                </a:solidFill>
                <a:latin typeface="Arial"/>
              </a:rPr>
              <a:t>Mein Name ist Th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99"/>
                </a:solidFill>
                <a:latin typeface="Arial"/>
              </a:rPr>
              <a:t>My name is th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66ff"/>
                </a:solidFill>
                <a:latin typeface="Arial"/>
              </a:rPr>
              <a:t>Ich bin zwölf Jahre 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66ff"/>
                </a:solidFill>
                <a:latin typeface="Arial"/>
              </a:rPr>
              <a:t>I am twelve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66ff"/>
                </a:solidFill>
                <a:latin typeface="Arial"/>
              </a:rPr>
              <a:t>Ich bin Schülerin und ich gehe auf das zweite Experimentelle  Gymnasium von Thessalon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66ff"/>
                </a:solidFill>
                <a:latin typeface="Arial"/>
              </a:rPr>
              <a:t>I am student of 2</a:t>
            </a:r>
            <a:r>
              <a:rPr b="0" lang="de-DE" sz="3200" spc="-1" strike="noStrike" baseline="30000">
                <a:solidFill>
                  <a:srgbClr val="9966ff"/>
                </a:solidFill>
                <a:latin typeface="Arial"/>
              </a:rPr>
              <a:t>nd</a:t>
            </a:r>
            <a:r>
              <a:rPr b="0" lang="de-DE" sz="3200" spc="-1" strike="noStrike">
                <a:solidFill>
                  <a:srgbClr val="9966ff"/>
                </a:solidFill>
                <a:latin typeface="Arial"/>
              </a:rPr>
              <a:t> Experimen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66ff"/>
                </a:solidFill>
                <a:latin typeface="Arial"/>
              </a:rPr>
              <a:t>Gymnasium of Thessalon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-14582880" y="-9244080"/>
            <a:ext cx="38100240" cy="28575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236000" y="260280"/>
            <a:ext cx="72720" cy="73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-171360"/>
            <a:ext cx="2519280" cy="201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bin 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sehen u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9:27:14Z</dcterms:created>
  <dc:creator>STIROS</dc:creator>
  <dc:description/>
  <dc:language>en-US</dc:language>
  <cp:lastModifiedBy>STIROS</cp:lastModifiedBy>
  <dcterms:modified xsi:type="dcterms:W3CDTF">2011-03-14T14:16:11Z</dcterms:modified>
  <cp:revision>7</cp:revision>
  <dc:subject/>
  <dc:title>Παρουσίαση του  εαυτού μου!!! </dc:title>
</cp:coreProperties>
</file>